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175-DD0F-4FD6-857F-D9FB629F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AFD-D341-461A-847A-6A38D1A8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0E6-51EB-4B50-AE89-8FB09B61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E75-E8AA-4B68-B47D-F26E8AD9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826D-12A8-4B6F-B860-A633B53B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AE63-0580-4DC5-A000-47AB42A2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5892-D531-4F71-AD59-95FF4736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44D-D67C-4713-9439-EB7813B5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7DD3-BD36-4E77-BD98-7F727439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4BE2-CF3F-47D2-94B8-45D1442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5396-303A-492A-AF83-22CC049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AFE-1F1E-4997-813C-57B6666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D581-B722-4745-A131-0D2D7E5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154C-4401-4F48-8528-B67FF857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B2C0-5F7E-427C-91CA-028D91CC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188E-C41D-490C-A8DE-EDDB7495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49E6-0CED-41A6-A6E2-8BADA609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993-2656-4BFD-B173-CF5D4CFA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979-50A7-4019-9541-65A463A3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905-1FAE-4553-8517-A2314D23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D0D-A063-4EF4-8ED0-5D68D35C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A92-FAB8-46E0-93DD-0D0E0D1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387-7EC3-4075-B36F-E1FDC86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173-641A-4A8E-88B3-ADE4DB39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9494-33D9-4003-BDB8-5F476E2E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20C3-04B1-408D-9E56-98372A36EB2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ilosophy of Edu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are the heart of philoso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world really lik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do we know someth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teach something?  To learn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should we treat each other?  What is valuabl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’s the best way of governing and arranging societ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does it mean for something to be beautifu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ere a correct way to reason?  What is reason anywa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ilosophical specialties have arisen to deal with thes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phys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stem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philosop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origin of Western Philoso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r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ble of the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does all this matter to teacher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answers to the questions of philosophy influence how we think about schools and our classroo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ilosophy of education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purpose of schooling?  Of edu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ought we to tea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should we teach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should we treat our students?  How doe we expect our students to treat u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ilosophical questions in other discipli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it mean to know someth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humans have free wi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re an essence to all  human being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crete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fair to treat students different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ole of the state in providing equal education for a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 student who fails a test be said to know less than a student who pas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you really grade a student’s art project or musical composi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a student’s culture influence how they do their assignments and how they are assess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48:46Z</dcterms:created>
  <dc:creator>popen</dc:creator>
  <dc:description/>
  <dc:language>en-US</dc:language>
  <cp:lastModifiedBy>Thiry-Wenz, Andrea</cp:lastModifiedBy>
  <dcterms:modified xsi:type="dcterms:W3CDTF">2011-09-19T20:16:27Z</dcterms:modified>
  <cp:revision>3</cp:revision>
  <dc:subject/>
  <dc:title>Philosophy of Education</dc:title>
</cp:coreProperties>
</file>